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78B-B004-4F8E-B63B-4DCCAB81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F12-69F0-473E-A0B6-FC9646AF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0C8-665D-4F1E-9F7B-93C40C67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29D-630D-4C1A-AFD3-BCF0BCB1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76C-C982-4452-BA80-2A0615E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D3E-4510-40C4-B6B4-AE60DBE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BC9-E094-4BAB-A639-FA6F88B2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C76-55A1-4D6D-B79C-0109084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1B2-E168-4011-9427-6D23C24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E06-2ABF-4407-A4F0-9F147BB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315-4C79-4D18-A231-5E73AD1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BA7-234C-4E47-9760-1DEA099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0777-256B-49B8-910F-645594417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usick8.com/rkdojo/rkdojo.php" TargetMode="External"/><Relationship Id="rId2" Type="http://schemas.openxmlformats.org/officeDocument/2006/relationships/hyperlink" Target="http://www.musick8.com/rkdojo/rkchart.php" TargetMode="External"/><Relationship Id="rId3" Type="http://schemas.openxmlformats.org/officeDocument/2006/relationships/hyperlink" Target="http://www.musick8.com/rkdojo/rksounds.php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Recorder Ka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rkgr1bk"/>
          <p:cNvPicPr/>
          <p:nvPr/>
        </p:nvPicPr>
        <p:blipFill>
          <a:blip r:embed="rId1"/>
          <a:stretch/>
        </p:blipFill>
        <p:spPr>
          <a:xfrm>
            <a:off x="1371600" y="3200400"/>
            <a:ext cx="2857680" cy="329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rkgr3wg"/>
          <p:cNvPicPr/>
          <p:nvPr/>
        </p:nvPicPr>
        <p:blipFill>
          <a:blip r:embed="rId2"/>
          <a:stretch/>
        </p:blipFill>
        <p:spPr>
          <a:xfrm>
            <a:off x="5486400" y="3124080"/>
            <a:ext cx="1782720" cy="32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499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at What I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828800" y="274320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410080" y="274320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914400" y="3809880"/>
            <a:ext cx="4267080" cy="1219320"/>
          </a:xfrm>
          <a:prstGeom prst="rect">
            <a:avLst/>
          </a:prstGeom>
          <a:noFill/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5257800" y="380988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ole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120" y="25560"/>
            <a:ext cx="7403760" cy="477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43540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870120" y="0"/>
            <a:ext cx="7403760" cy="548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867280" y="3695760"/>
            <a:ext cx="301320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273400" y="0"/>
            <a:ext cx="7404120" cy="535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222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er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corder &amp; case with a permanent ma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playing wipe the inside of your recorder with a pipe cleaner. This will keep disgusting things from growing i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wash your recorder in the dishwasher or warm soapy water, once in a whil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sure you take your belts off fir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recorder in your case when you are not play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2133720"/>
            <a:ext cx="1828800" cy="431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63560" y="0"/>
            <a:ext cx="740412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 for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r Karate D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sick8.com/rkdojo/rkdojo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ing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usick8.com/rkdojo/rkch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usick8.com/rkdojo/rksounds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 is “karate.” See Mrs. White for the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ding the Rec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320" y="12189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Hand (LH)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mb covers hole on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s cover top 3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use pin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Hand (RH) on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mb on back to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s cover bottom four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holes completely with pads of fi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s slightly cu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recorder at 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gle (toward kn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517680" y="990720"/>
            <a:ext cx="273348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ing in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44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piece on bottom lip in front of bottom tee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ite on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ip in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down gently with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mmmm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e through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open &amp; close mouth as you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kgr11gwr"/>
          <p:cNvPicPr/>
          <p:nvPr/>
        </p:nvPicPr>
        <p:blipFill>
          <a:blip r:embed="rId1"/>
          <a:stretch/>
        </p:blipFill>
        <p:spPr>
          <a:xfrm>
            <a:off x="457200" y="1828800"/>
            <a:ext cx="332748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ing into the Mouth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ly, steady air stream, not too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like steaming up a car window, with no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ir straight out, no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kgr6bwfu"/>
          <p:cNvPicPr/>
          <p:nvPr/>
        </p:nvPicPr>
        <p:blipFill>
          <a:blip r:embed="rId1"/>
          <a:stretch/>
        </p:blipFill>
        <p:spPr>
          <a:xfrm>
            <a:off x="533520" y="1600200"/>
            <a:ext cx="228276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guing or “Articulat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gue is valve that stops and releases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touches roof of mouth to stop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releases down to let ai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aying the word “t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notes with and without tonguing to discover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kgr12gwro"/>
          <p:cNvPicPr/>
          <p:nvPr/>
        </p:nvPicPr>
        <p:blipFill>
          <a:blip r:embed="rId1"/>
          <a:stretch/>
        </p:blipFill>
        <p:spPr>
          <a:xfrm>
            <a:off x="152280" y="2209680"/>
            <a:ext cx="2857680" cy="29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eaks are caused by 2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ing too hard (steamy window t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ks (check for circles on pads of fin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rkgr13gwrih"/>
          <p:cNvPicPr/>
          <p:nvPr/>
        </p:nvPicPr>
        <p:blipFill>
          <a:blip r:embed="rId1"/>
          <a:stretch/>
        </p:blipFill>
        <p:spPr>
          <a:xfrm>
            <a:off x="457200" y="1447920"/>
            <a:ext cx="199548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992840" cy="5029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249640" y="1447920"/>
            <a:ext cx="49892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6:35:41Z</dcterms:created>
  <dc:creator>Christine White</dc:creator>
  <dc:description/>
  <dc:language>en-US</dc:language>
  <cp:lastModifiedBy>Christine White</cp:lastModifiedBy>
  <cp:lastPrinted>2010-09-21T19:06:08Z</cp:lastPrinted>
  <dcterms:modified xsi:type="dcterms:W3CDTF">2010-09-21T19:06:16Z</dcterms:modified>
  <cp:revision>24</cp:revision>
  <dc:subject/>
  <dc:title>Intro to Recorder Karate</dc:title>
</cp:coreProperties>
</file>